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E91-F01A-498C-AE1B-59247ED1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922-7C6A-423C-9D03-0E831AAD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5B5-BE24-42D4-90E3-CE20B26B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602-7748-497F-872B-3CBE1BC4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380-7F00-40FB-B6AE-4092674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224-E263-4015-988C-BC71267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E1F-76E7-411B-9CE5-AC50AF33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BE9-A80A-4986-BD43-241C52D1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E0-C0A3-4D37-BABE-EB000CF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CB3-17DE-40EC-B62F-E71A45C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582-DAAA-422A-A68A-AFB2FB4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400-C3B6-4436-911B-A803110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FBC-A7E3-4C54-BE59-916573A6CF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DC9-F0DF-4609-A4BC-8673B764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2DD-4BC4-4C35-AD23-AB746EAB77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6FC-A467-4625-9B17-0C835111C76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47A-BCDB-4B68-9673-2B7292E16E4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13B-3356-4BCC-94D5-C72022582B8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92B-9E1E-4844-B596-33C6A5A286B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BCC-D7EE-4C47-8239-6044E540344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4EB-D2FD-4D22-92D2-F055412C829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023-B1E0-41BB-830A-A30D9907464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BB2-F940-4E4C-B409-221C49C6DAC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FCD-24BB-4E76-9C84-3693B41AA4B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B01-6216-4D8F-8FAE-AAC3A01FEE6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A5E-9650-4017-9386-19A2D0D0640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06E-6D22-418C-9421-C53C13E2861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B0F-F08E-4520-AD61-87A6D815854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DF1-6CDF-4F8B-A28A-97D0FE932C9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: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BC0-9966-4EEE-923D-0518E8E1E3F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95F-B592-45C8-88A1-EC6FFE5CBC9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360-6795-46FC-9A5B-B5F6CD787D4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518184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DBB-52D5-4BEE-AA88-D60CA898EE0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: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70D-1EE3-48DB-9BAE-3805974F3D2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95F-E168-481F-96BF-6BDF508EA99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3F-D2A4-4995-9BA3-C1031CD6299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F39-7CD8-4721-9149-BFCD31CD6FE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CFB-6929-4AE0-9049-8FCC29C9162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:5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45B-3CBB-4BE4-8E6E-88B4AF7B106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49A-C70B-46FC-BFAB-12206B8403F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490-4017-4057-8980-890F297FECE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146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2895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1D6-340A-4CFD-82CA-D51FB0E3ED1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7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C0E-4843-481D-A4E6-8EB2A396049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19720" y="3971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4100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666880" y="29433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CB6-4C34-4E59-B25A-93B139C280B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F36-D80E-4B3A-AA7C-8B2B385F97E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5C4-6A25-454A-9572-3CFCC9FCAD3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199-F34D-4356-BE6B-8F4F8050D066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C9E-E32B-4E88-BC48-D6B130FBD0F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510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 Qua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8 Nick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9E8-101C-4FBC-9224-49824C2B837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780-81BD-46B9-8820-9F46153EDB23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523880"/>
            <a:ext cx="5105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2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 D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Nic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085-A1C9-4BC2-8AEB-73B39F6C3F4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FC8-CB6D-4381-B69D-C3E01C2C5D46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4C0-8624-4622-8358-036193C0788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B4C-F488-4732-869F-CC6D1E070C4D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80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Jimmy buys 7 pencils from the school store. His mother gave him 12 more for his birthd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57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1- How many pencils does Jimmy hav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2- What is the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3- Write the number model for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C52-E661-4250-9ECF-C8D473C18FE8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77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-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- penc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- 7+12=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B0C-625B-4D57-B411-24FE4265FDBF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006-2812-49C7-9544-A80A5672D33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A23-F73A-45F6-92A9-B1E6458388B9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6ED-7CD2-4EE7-8761-1B7D00F9ECD8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Which numbers don’t bel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15, 25, 35, 40, 55, 65, 105, 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8, 10, 12, 16, 17, 18, 20, 22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DAC-D170-4EB3-8EB2-2FA6A4FF7992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40, 1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16, 17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F66-B6DC-48E6-A2C6-62FEC0920D0A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463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990720"/>
            <a:ext cx="129564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0200"/>
            <a:ext cx="12956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1320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132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2308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796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2308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37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133000">
            <a:off x="7428960" y="42289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75568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23880" y="43434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2196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990720"/>
            <a:ext cx="129528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600200"/>
            <a:ext cx="12952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457200"/>
            <a:ext cx="25909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3B2-E9FA-42E8-98DC-5B398EEE8E57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9954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-457200" y="499896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00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1905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891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6588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6076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6588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6076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65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133000">
            <a:off x="6972120" y="305568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9848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066680" y="317016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6476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441-95D7-4B05-B222-DDED70A0B2C2}" type="slidenum">
              <a:t>53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EC9-262A-42C3-86FE-9F7EECB7234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B49-5050-4A54-8399-A3259F7C62F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0DE-55A8-45F0-88F4-F13FB3A5678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07D-CE25-4441-8AFC-4CFC4901310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Property of</cp:lastModifiedBy>
  <dcterms:modified xsi:type="dcterms:W3CDTF">2010-10-25T00:06:17Z</dcterms:modified>
  <cp:revision>35</cp:revision>
  <dc:subject/>
  <dc:title>Blank Jeopardy</dc:title>
</cp:coreProperties>
</file>